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4F7-4E10-48D4-B811-2AF6B406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2F6-0FA0-42AD-8AEC-92B4CE1B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B06-56A1-4D38-85C9-7E9F9EDD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6D9-4CF2-4124-95B0-337BA57F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DBF-9CA4-4801-AE28-4769779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1AB-351E-4281-AB27-BFFADCE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BE0-81D4-47D9-AEEA-D45E367E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BDF-B3E5-458B-BA68-4E8A7FD5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577-4ED8-4422-9A56-103D4C0E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C5F-A719-4A8C-95AD-8FBA3B1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0A6-4CB5-47DB-8C07-0E91688F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512-E698-4968-BD8D-6C0458A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31C3-4F83-47DA-99CD-3E3A19C6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Communication between parents and their Children with Mild Emotional Behavioral Disorder (EBD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rina B. Tong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 Andrea M. A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unit will teach the children with special needs the importance of having a good and effective communication with their parents. And for the children to have a feeling of security in terms of their individual condition and edu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is subject unit can help you a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ld to your par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 what way effective communicatio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better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are the possible difficulties tha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encounter in studying this u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can you define eff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at are the differences and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ies of the thr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3:55Z</dcterms:created>
  <dc:creator>nave1386</dc:creator>
  <dc:description/>
  <dc:language>en-US</dc:language>
  <cp:lastModifiedBy>X.U</cp:lastModifiedBy>
  <dcterms:modified xsi:type="dcterms:W3CDTF">2010-09-20T06:44:05Z</dcterms:modified>
  <cp:revision>3</cp:revision>
  <dc:subject/>
  <dc:title> </dc:title>
</cp:coreProperties>
</file>